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D76-7A0C-45C2-ABAF-A5C2ABD0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20F-3EF8-47EA-81C2-A9D015B7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7ED-283F-4D64-9865-C05795A2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B25-012B-4D1C-AB25-2D0D0BBE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A47-EE3D-4C74-90E4-DF6E6DC6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223-F9F0-4C50-B138-E3D5A1FC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B37-3C61-4E77-AC8D-64C946E2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EC3-17D6-4C7F-B110-FD9F28D2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DD5-B83E-4C8E-873A-20B0DA96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FBE6-E0E6-4567-B73C-A91712C2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D13-FE9C-454E-81AC-6CECEE0A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035-EE73-49AC-965C-CF126ED4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0CC0-F4E5-4BF6-A845-8A24BDAEA7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633240" y="-19080"/>
            <a:ext cx="8169480" cy="102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00040" y="4286160"/>
          <a:ext cx="8215200" cy="2008440"/>
        </p:xfrm>
        <a:graphic>
          <a:graphicData uri="http://schemas.openxmlformats.org/drawingml/2006/table">
            <a:tbl>
              <a:tblPr/>
              <a:tblGrid>
                <a:gridCol w="2054160"/>
                <a:gridCol w="2017800"/>
                <a:gridCol w="2143080"/>
                <a:gridCol w="200016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ДЕ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-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-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о? 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ы,    -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а,    -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н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у,    -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а,   -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14200" y="1214280"/>
          <a:ext cx="8786880" cy="2743200"/>
        </p:xfrm>
        <a:graphic>
          <a:graphicData uri="http://schemas.openxmlformats.org/drawingml/2006/table">
            <a:tbl>
              <a:tblPr/>
              <a:tblGrid>
                <a:gridCol w="714600"/>
                <a:gridCol w="2143080"/>
                <a:gridCol w="2354040"/>
                <a:gridCol w="35751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ма, дяд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ник, конь, 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Р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кого?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мамы, дя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ученика, коня, </a:t>
                      </a:r>
                      <a:r>
                        <a:rPr b="0" lang="ru-RU" sz="2400" spc="-1" strike="noStrike">
                          <a:solidFill>
                            <a:srgbClr val="080808"/>
                          </a:solidFill>
                          <a:latin typeface="Calibri"/>
                        </a:rPr>
                        <a:t>д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у? 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е, дя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ку, коню, д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В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кого?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маму, дяд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ученика, коня,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м?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ой, дяд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ком, конём, днё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ком? о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аме, о дя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 ученике, о коне, о д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86280" y="214200"/>
            <a:ext cx="87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000"/>
                </a:solidFill>
                <a:latin typeface="Calibri"/>
              </a:rPr>
              <a:t>Определите склонение и падеж выделенных существи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598320" y="1500120"/>
            <a:ext cx="798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Тетрадь </a:t>
            </a:r>
            <a:r>
              <a:rPr b="1" lang="ru-RU" sz="3600" spc="-1" strike="noStrike">
                <a:solidFill>
                  <a:srgbClr val="403152"/>
                </a:solidFill>
                <a:latin typeface="Calibri"/>
              </a:rPr>
              <a:t>ученика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лежит на ст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Тетрадь </a:t>
            </a:r>
            <a:r>
              <a:rPr b="1" lang="ru-RU" sz="3600" spc="-1" strike="noStrike">
                <a:solidFill>
                  <a:srgbClr val="403152"/>
                </a:solidFill>
                <a:latin typeface="Calibri"/>
              </a:rPr>
              <a:t>ученицы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лежит на ст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Охотник заметил </a:t>
            </a:r>
            <a:r>
              <a:rPr b="1" lang="ru-RU" sz="3600" spc="-1" strike="noStrike">
                <a:solidFill>
                  <a:srgbClr val="403152"/>
                </a:solidFill>
                <a:latin typeface="Calibri"/>
              </a:rPr>
              <a:t>волка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и выстрел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Охотник заметил </a:t>
            </a:r>
            <a:r>
              <a:rPr b="1" lang="ru-RU" sz="3600" spc="-1" strike="noStrike">
                <a:solidFill>
                  <a:srgbClr val="403152"/>
                </a:solidFill>
                <a:latin typeface="Calibri"/>
              </a:rPr>
              <a:t>лисицу</a:t>
            </a: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 и выстрел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857160" y="428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091960" y="642960"/>
            <a:ext cx="47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147a"/>
                </a:solidFill>
                <a:latin typeface="Calibri"/>
              </a:rPr>
              <a:t>Сравните пары пред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TextBox 6" descr=""/>
          <p:cNvPicPr/>
          <p:nvPr/>
        </p:nvPicPr>
        <p:blipFill>
          <a:blip r:embed="rId1"/>
          <a:stretch/>
        </p:blipFill>
        <p:spPr>
          <a:xfrm>
            <a:off x="1322280" y="3968640"/>
            <a:ext cx="6205680" cy="438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500040" y="4429080"/>
            <a:ext cx="814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ля того, чтобы отличить родительный падеж от винительного у существительных второго склонения, можно заменить это существительное существительным первого скло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352960" y="13572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2-е скл., Р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394160" y="3071880"/>
            <a:ext cx="13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1-е скл., В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318040" y="19288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1-е скл., Р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4244040" y="2500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2-е скл., В.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28760" y="10332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Arial"/>
              </a:rPr>
              <a:t>Разделите на групп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оседа, про дельфина, о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ручей, для ученика, за лаге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71680" y="4286160"/>
          <a:ext cx="8215200" cy="2008440"/>
        </p:xfrm>
        <a:graphic>
          <a:graphicData uri="http://schemas.openxmlformats.org/drawingml/2006/table">
            <a:tbl>
              <a:tblPr/>
              <a:tblGrid>
                <a:gridCol w="2054160"/>
                <a:gridCol w="2017440"/>
                <a:gridCol w="214344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ДЕ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-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-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о? 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ы,    -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а,    -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н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у,    -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а,   -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" name="TextBox 3"/>
          <p:cNvSpPr/>
          <p:nvPr/>
        </p:nvSpPr>
        <p:spPr>
          <a:xfrm>
            <a:off x="1299600" y="2071800"/>
            <a:ext cx="266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2-е скл. 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у сос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от мал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для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5086800" y="2071800"/>
            <a:ext cx="310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2-е скл. 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про дельф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через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147a"/>
                </a:solidFill>
                <a:latin typeface="Arial"/>
              </a:rPr>
              <a:t>за лаг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1280" y="214200"/>
          <a:ext cx="8929800" cy="2984760"/>
        </p:xfrm>
        <a:graphic>
          <a:graphicData uri="http://schemas.openxmlformats.org/drawingml/2006/table">
            <a:tbl>
              <a:tblPr/>
              <a:tblGrid>
                <a:gridCol w="3349800"/>
                <a:gridCol w="2811600"/>
                <a:gridCol w="2768400"/>
              </a:tblGrid>
              <a:tr h="1484280">
                <a:tc gridSpan="3"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ительный падеж    </a:t>
                      </a:r>
                      <a:r>
                        <a:rPr b="1" lang="ru-RU" sz="28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Кем? Чем?   (Где? Куда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, за, под, над, меж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ый чл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ой, -е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ом, -е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ю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Box 3"/>
          <p:cNvSpPr/>
          <p:nvPr/>
        </p:nvSpPr>
        <p:spPr>
          <a:xfrm>
            <a:off x="296640" y="3500280"/>
            <a:ext cx="836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кажите о творительном падеже по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На какие вопросы отвеч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 какими предлогами употребля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Какую роль выполняет в предлож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Какие окончания имеет в 1-м, 2-м, 3-м склонени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14200" y="2643120"/>
          <a:ext cx="8643960" cy="3036960"/>
        </p:xfrm>
        <a:graphic>
          <a:graphicData uri="http://schemas.openxmlformats.org/drawingml/2006/table">
            <a:tbl>
              <a:tblPr/>
              <a:tblGrid>
                <a:gridCol w="3295800"/>
                <a:gridCol w="2765520"/>
                <a:gridCol w="2582640"/>
              </a:tblGrid>
              <a:tr h="1478160">
                <a:tc gridSpan="3"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ожный падеж    </a:t>
                      </a:r>
                      <a:r>
                        <a:rPr b="1" lang="ru-RU" sz="32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о ком? о чём? (где?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31147a"/>
                          </a:solidFill>
                          <a:latin typeface="Times New Roman"/>
                          <a:ea typeface="Calibri"/>
                        </a:rPr>
                        <a:t>о (об), в, на, п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ый чл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-е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953735"/>
                          </a:solidFill>
                          <a:latin typeface="Times New Roman"/>
                          <a:ea typeface="Calibri"/>
                        </a:rPr>
                        <a:t>-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Box 2"/>
          <p:cNvSpPr/>
          <p:nvPr/>
        </p:nvSpPr>
        <p:spPr>
          <a:xfrm>
            <a:off x="149400" y="5786280"/>
            <a:ext cx="625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147a"/>
                </a:solidFill>
                <a:latin typeface="Arial"/>
              </a:rPr>
              <a:t>Чем интересен предложный падеж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147a"/>
                </a:solidFill>
                <a:latin typeface="Arial"/>
              </a:rPr>
              <a:t>Какой учёный дал ему такое назва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57120" y="28584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40000"/>
                </a:solidFill>
                <a:latin typeface="Arial"/>
              </a:rPr>
              <a:t>Расскажите о предложном падеже по пла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опросы предложного пад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ед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оль в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кончания существительных 1-го, 2-го, 3-го скло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едложном пад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6157800" y="614376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a40000"/>
                </a:solidFill>
                <a:latin typeface="Arial"/>
              </a:rPr>
              <a:t>(М. В. Ломоносо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8:38:16Z</dcterms:created>
  <dc:creator>Гимадиева Насима</dc:creator>
  <dc:description/>
  <dc:language>en-US</dc:language>
  <cp:lastModifiedBy>Гимадиева Насима</cp:lastModifiedBy>
  <dcterms:modified xsi:type="dcterms:W3CDTF">2011-12-12T16:46:59Z</dcterms:modified>
  <cp:revision>24</cp:revision>
  <dc:subject/>
  <dc:title>Слайд 1</dc:title>
</cp:coreProperties>
</file>